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D4CF7-98C6-4148-8C92-7178784081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54F49-DF16-49DE-9751-A8BEB0B0F5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10E60-F925-4F7D-8E17-E2B13D923B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C4554-8AFB-49A7-BAC5-B5C2F3F27D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64FE4-03F0-494D-A24B-156CE210C5B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A8E26-1156-4210-90C7-FAECDBEA852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8D444-E17E-4AF4-B59C-B053D196B8F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DC81D-D319-480B-B8E5-AA91018D6E8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836D3-446A-4B88-B793-220BF5F7015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D4E8C-2443-452C-BA76-6204C40943E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02152-2DF8-4C4C-9DFF-CFC9D2F6F6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FD678-D231-43FF-A8C7-145E0567B2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2EAB1-695A-4994-9662-01D3F2BA5F5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A2CE3-27F1-4535-BCC2-11AACDB53B3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9BB68-3A19-4500-8640-223792EE0EE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6E033-A903-402B-AEDD-E2E6A20F784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68BE8-FF72-44E3-B765-2A5C65C2840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F014-7447-49BD-AE61-DCC172B766F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B907-65E7-4B31-BAAB-137BC9C1ABC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B0A4-8B23-452C-80F5-79FA6E5D3A4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29C2-98A7-435F-98C1-D3C35308EE3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5810-CD2D-4B30-88D1-4F9A9634B4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40D1F-42DB-49B1-ACCB-E420729F1E1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48A2-A368-4ABD-9852-D48CAD26886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12B5-3B92-4BD2-BB58-A7A0010BD34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30AF-0548-4473-8917-106B21996BB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0A0E-E43F-45DC-B5A8-1F16572283B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70B5-6470-46CF-8D46-FB423275BC4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58DF-ECA6-4D28-B7E4-A9E6BA1591C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9351-AA62-469A-A055-1196104109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D1911-449B-4EDF-B80F-99ABB170A3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26662-A6C7-4FE0-8323-3532C09CC4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2FECE-6BF5-4A1F-AE30-65B08D9FAA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D523B-A105-4EB7-9792-238D640327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F087D-0BDB-4866-BF8D-0105F9F1E5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68243-2D5B-4FAD-A3C7-2D98850009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360360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67F78-9DDE-486B-A9B5-6A6E2B20931E}" type="slidenum">
              <a:rPr b="0" lang="en-US" sz="10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>
            <a:hlinkClick r:id="rId3" action="ppaction://hlinksldjump"/>
          </p:cNvPr>
          <p:cNvSpPr/>
          <p:nvPr/>
        </p:nvSpPr>
        <p:spPr>
          <a:xfrm>
            <a:off x="8101080" y="5915160"/>
            <a:ext cx="609480" cy="322200"/>
          </a:xfrm>
          <a:custGeom>
            <a:avLst/>
            <a:gdLst>
              <a:gd name="textAreaLeft" fmla="*/ 20880 w 609480"/>
              <a:gd name="textAreaRight" fmla="*/ 588600 w 60948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40838" h="21600">
                <a:moveTo>
                  <a:pt x="0" y="0"/>
                </a:moveTo>
                <a:lnTo>
                  <a:pt x="40838" y="0"/>
                </a:lnTo>
                <a:lnTo>
                  <a:pt x="40838" y="21600"/>
                </a:lnTo>
                <a:lnTo>
                  <a:pt x="0" y="21600"/>
                </a:lnTo>
                <a:close/>
              </a:path>
              <a:path fill="lightenLess" w="40838" h="21600">
                <a:moveTo>
                  <a:pt x="0" y="0"/>
                </a:moveTo>
                <a:lnTo>
                  <a:pt x="40838" y="0"/>
                </a:lnTo>
                <a:lnTo>
                  <a:pt x="39438" y="1400"/>
                </a:lnTo>
                <a:lnTo>
                  <a:pt x="1400" y="1400"/>
                </a:lnTo>
                <a:close/>
              </a:path>
              <a:path fill="darken" w="40838" h="21600">
                <a:moveTo>
                  <a:pt x="40838" y="0"/>
                </a:moveTo>
                <a:lnTo>
                  <a:pt x="40838" y="21600"/>
                </a:lnTo>
                <a:lnTo>
                  <a:pt x="39438" y="20200"/>
                </a:lnTo>
                <a:lnTo>
                  <a:pt x="39438" y="1400"/>
                </a:lnTo>
                <a:close/>
              </a:path>
              <a:path fill="darkenLess" w="40838" h="21600">
                <a:moveTo>
                  <a:pt x="408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438" y="20200"/>
                </a:lnTo>
                <a:close/>
              </a:path>
              <a:path fill="lighten" w="408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838" h="21600">
                <a:moveTo>
                  <a:pt x="13412" y="7493"/>
                </a:moveTo>
                <a:lnTo>
                  <a:pt x="16920" y="7493"/>
                </a:lnTo>
                <a:lnTo>
                  <a:pt x="16920" y="12828"/>
                </a:lnTo>
                <a:cubicBezTo>
                  <a:pt x="16920" y="13751"/>
                  <a:pt x="17721" y="14482"/>
                  <a:pt x="18756" y="14482"/>
                </a:cubicBezTo>
                <a:lnTo>
                  <a:pt x="20419" y="14482"/>
                </a:lnTo>
                <a:cubicBezTo>
                  <a:pt x="21454" y="14482"/>
                  <a:pt x="22255" y="13751"/>
                  <a:pt x="22255" y="12828"/>
                </a:cubicBezTo>
                <a:lnTo>
                  <a:pt x="22255" y="7493"/>
                </a:lnTo>
                <a:lnTo>
                  <a:pt x="20419" y="7493"/>
                </a:lnTo>
                <a:lnTo>
                  <a:pt x="23926" y="3985"/>
                </a:lnTo>
                <a:lnTo>
                  <a:pt x="27599" y="7493"/>
                </a:lnTo>
                <a:lnTo>
                  <a:pt x="25763" y="7493"/>
                </a:lnTo>
                <a:lnTo>
                  <a:pt x="25763" y="12828"/>
                </a:lnTo>
                <a:cubicBezTo>
                  <a:pt x="25763" y="15596"/>
                  <a:pt x="23187" y="18155"/>
                  <a:pt x="20419" y="18155"/>
                </a:cubicBezTo>
                <a:lnTo>
                  <a:pt x="18756" y="18155"/>
                </a:lnTo>
                <a:cubicBezTo>
                  <a:pt x="15989" y="18155"/>
                  <a:pt x="13412" y="15596"/>
                  <a:pt x="13412" y="12828"/>
                </a:cubicBezTo>
                <a:close/>
              </a:path>
            </a:pathLst>
          </a:cu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, 2006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rpo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ay 2006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499"/>
              </a:spcBef>
              <a:buClr>
                <a:srgbClr val="3a0e66"/>
              </a:buClr>
              <a:buFont typeface="Minio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ldNum" idx="2"/>
          </p:nvPr>
        </p:nvSpPr>
        <p:spPr>
          <a:xfrm>
            <a:off x="360360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9A891-6D88-42E8-A7E6-9FBF88AE10CC}" type="slidenum">
              <a:rPr b="0" lang="en-US" sz="10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, 2005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rpo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ar 06, V.2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3"/>
          </p:nvPr>
        </p:nvSpPr>
        <p:spPr>
          <a:xfrm>
            <a:off x="360360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9500A-0AB6-45B7-A460-93602C9580D4}" type="slidenum">
              <a:rPr b="0" lang="en-US" sz="10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3" action="ppaction://hlinksldjump"/>
          </p:cNvPr>
          <p:cNvSpPr/>
          <p:nvPr/>
        </p:nvSpPr>
        <p:spPr>
          <a:xfrm>
            <a:off x="8101080" y="5915160"/>
            <a:ext cx="609480" cy="322200"/>
          </a:xfrm>
          <a:custGeom>
            <a:avLst/>
            <a:gdLst>
              <a:gd name="textAreaLeft" fmla="*/ 20880 w 609480"/>
              <a:gd name="textAreaRight" fmla="*/ 588600 w 60948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40838" h="21600">
                <a:moveTo>
                  <a:pt x="0" y="0"/>
                </a:moveTo>
                <a:lnTo>
                  <a:pt x="40838" y="0"/>
                </a:lnTo>
                <a:lnTo>
                  <a:pt x="40838" y="21600"/>
                </a:lnTo>
                <a:lnTo>
                  <a:pt x="0" y="21600"/>
                </a:lnTo>
                <a:close/>
              </a:path>
              <a:path fill="lightenLess" w="40838" h="21600">
                <a:moveTo>
                  <a:pt x="0" y="0"/>
                </a:moveTo>
                <a:lnTo>
                  <a:pt x="40838" y="0"/>
                </a:lnTo>
                <a:lnTo>
                  <a:pt x="39438" y="1400"/>
                </a:lnTo>
                <a:lnTo>
                  <a:pt x="1400" y="1400"/>
                </a:lnTo>
                <a:close/>
              </a:path>
              <a:path fill="darken" w="40838" h="21600">
                <a:moveTo>
                  <a:pt x="40838" y="0"/>
                </a:moveTo>
                <a:lnTo>
                  <a:pt x="40838" y="21600"/>
                </a:lnTo>
                <a:lnTo>
                  <a:pt x="39438" y="20200"/>
                </a:lnTo>
                <a:lnTo>
                  <a:pt x="39438" y="1400"/>
                </a:lnTo>
                <a:close/>
              </a:path>
              <a:path fill="darkenLess" w="40838" h="21600">
                <a:moveTo>
                  <a:pt x="408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438" y="20200"/>
                </a:lnTo>
                <a:close/>
              </a:path>
              <a:path fill="lighten" w="408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838" h="21600">
                <a:moveTo>
                  <a:pt x="13412" y="7493"/>
                </a:moveTo>
                <a:lnTo>
                  <a:pt x="16920" y="7493"/>
                </a:lnTo>
                <a:lnTo>
                  <a:pt x="16920" y="12828"/>
                </a:lnTo>
                <a:cubicBezTo>
                  <a:pt x="16920" y="13751"/>
                  <a:pt x="17721" y="14482"/>
                  <a:pt x="18756" y="14482"/>
                </a:cubicBezTo>
                <a:lnTo>
                  <a:pt x="20419" y="14482"/>
                </a:lnTo>
                <a:cubicBezTo>
                  <a:pt x="21454" y="14482"/>
                  <a:pt x="22255" y="13751"/>
                  <a:pt x="22255" y="12828"/>
                </a:cubicBezTo>
                <a:lnTo>
                  <a:pt x="22255" y="7493"/>
                </a:lnTo>
                <a:lnTo>
                  <a:pt x="20419" y="7493"/>
                </a:lnTo>
                <a:lnTo>
                  <a:pt x="23926" y="3985"/>
                </a:lnTo>
                <a:lnTo>
                  <a:pt x="27599" y="7493"/>
                </a:lnTo>
                <a:lnTo>
                  <a:pt x="25763" y="7493"/>
                </a:lnTo>
                <a:lnTo>
                  <a:pt x="25763" y="12828"/>
                </a:lnTo>
                <a:cubicBezTo>
                  <a:pt x="25763" y="15596"/>
                  <a:pt x="23187" y="18155"/>
                  <a:pt x="20419" y="18155"/>
                </a:cubicBezTo>
                <a:lnTo>
                  <a:pt x="18756" y="18155"/>
                </a:lnTo>
                <a:cubicBezTo>
                  <a:pt x="15989" y="18155"/>
                  <a:pt x="13412" y="15596"/>
                  <a:pt x="13412" y="12828"/>
                </a:cubicBezTo>
                <a:close/>
              </a:path>
            </a:pathLst>
          </a:cu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, 2005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rpo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ar 06, V.2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01600" y="15192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Value Added Enhancements</a:t>
            </a:r>
            <a:br>
              <a:rPr sz="2000"/>
            </a:b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Organizational Overview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4" name=""/>
          <p:cNvSpPr/>
          <p:nvPr/>
        </p:nvSpPr>
        <p:spPr>
          <a:xfrm>
            <a:off x="-2622600" y="766800"/>
            <a:ext cx="0" cy="368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32000" y="692280"/>
            <a:ext cx="2519640" cy="792000"/>
          </a:xfrm>
          <a:prstGeom prst="rect">
            <a:avLst/>
          </a:prstGeom>
          <a:solidFill>
            <a:srgbClr val="d1c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b5d"/>
                </a:solidFill>
                <a:latin typeface="Arial"/>
                <a:ea typeface="新細明體"/>
              </a:rPr>
              <a:t>BMG PH RD V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b5d"/>
                </a:solidFill>
                <a:latin typeface="Arial"/>
                <a:ea typeface="新細明體"/>
              </a:rPr>
              <a:t>Value Added Enhan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Juergen Riesmeyer         Menzie Liang (dep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19280" y="3071880"/>
            <a:ext cx="1258920" cy="503280"/>
          </a:xfrm>
          <a:prstGeom prst="rect">
            <a:avLst/>
          </a:prstGeom>
          <a:solidFill>
            <a:srgbClr val="e9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D VAE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Electroni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artina Schob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84720" y="3068640"/>
            <a:ext cx="1258560" cy="503280"/>
          </a:xfrm>
          <a:prstGeom prst="rect">
            <a:avLst/>
          </a:prstGeom>
          <a:solidFill>
            <a:srgbClr val="e9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D VAE 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 </a:t>
            </a: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ech. Eng.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Doc. &amp; Layout</a:t>
            </a:r>
            <a:r>
              <a:rPr b="0" lang="en-US" sz="800" spc="-1" strike="noStrike">
                <a:solidFill>
                  <a:srgbClr val="000000"/>
                </a:solidFill>
                <a:latin typeface="Minio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einhold Hei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24360" y="3068640"/>
            <a:ext cx="1258920" cy="503280"/>
          </a:xfrm>
          <a:prstGeom prst="rect">
            <a:avLst/>
          </a:prstGeom>
          <a:solidFill>
            <a:srgbClr val="e9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D VAE 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EMC/I&amp;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Ulrich Bett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2205000"/>
            <a:ext cx="144144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VAE PCM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latform Compatibility Manag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Jens Knapmey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979640" y="1558800"/>
            <a:ext cx="144144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VAE PCM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latform Compatibility Manag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Thorsten Lan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37080" y="1555920"/>
            <a:ext cx="1441440" cy="50292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VAE P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cess, Planning,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Ulrich Bett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37080" y="2203560"/>
            <a:ext cx="144144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VAE 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Technology &amp; Strateg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N. 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427640" y="148428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429080" y="18432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429080" y="24908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3565440" y="18460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565440" y="22068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420720" y="24940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420720" y="18464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03280" y="177336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58920" y="60199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58920" y="54421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58920" y="48657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58920" y="42894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258920" y="37130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24000" y="1770120"/>
            <a:ext cx="17928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24000" y="2347920"/>
            <a:ext cx="17928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87280" y="29224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1484280"/>
            <a:ext cx="115092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M 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Nico D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79280" y="2060640"/>
            <a:ext cx="1152720" cy="46836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Minion"/>
              </a:rPr>
              <a:t>PM 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Dilek Alt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9280" y="2633760"/>
            <a:ext cx="115092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Minion"/>
              </a:rPr>
              <a:t>PM 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Fredrik Herman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738920" y="3070080"/>
            <a:ext cx="1224000" cy="503280"/>
          </a:xfrm>
          <a:prstGeom prst="rect">
            <a:avLst/>
          </a:prstGeom>
          <a:solidFill>
            <a:srgbClr val="e9e1ff"/>
          </a:solidFill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DQ VA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enzie Lia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9280" y="3427560"/>
            <a:ext cx="1152720" cy="50292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M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Hans-Klaus Nussbaec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9280" y="4005360"/>
            <a:ext cx="115272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M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Andreas Grielhues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9280" y="5154480"/>
            <a:ext cx="115272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M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Ludwig Kundl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5734080"/>
            <a:ext cx="115272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M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Frank Templ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9280" y="4579920"/>
            <a:ext cx="115272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M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Steffen Pietzs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3563640" y="2133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68360" y="292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94200" y="292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373800" y="292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292428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315280" y="292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404720" y="2924280"/>
            <a:ext cx="511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6311C-6BC5-4940-938D-0F92FD8421D2}" type="slidenum">
              <a:t>1</a:t>
            </a:fld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01600" y="15192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Value Added Enhancements</a:t>
            </a:r>
            <a:br>
              <a:rPr sz="2000"/>
            </a:b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Organization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6" name=""/>
          <p:cNvSpPr/>
          <p:nvPr/>
        </p:nvSpPr>
        <p:spPr>
          <a:xfrm>
            <a:off x="-2622600" y="766800"/>
            <a:ext cx="0" cy="368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32000" y="692280"/>
            <a:ext cx="2519640" cy="792000"/>
          </a:xfrm>
          <a:prstGeom prst="rect">
            <a:avLst/>
          </a:prstGeom>
          <a:solidFill>
            <a:srgbClr val="d1c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b5d"/>
                </a:solidFill>
                <a:latin typeface="Arial"/>
                <a:ea typeface="新細明體"/>
              </a:rPr>
              <a:t>BMG PH RD V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b5d"/>
                </a:solidFill>
                <a:latin typeface="Arial"/>
                <a:ea typeface="新細明體"/>
              </a:rPr>
              <a:t>Value Added Enhan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Juergen Riesmeyer         Menzie Liang (dep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19280" y="3071880"/>
            <a:ext cx="1258920" cy="503280"/>
          </a:xfrm>
          <a:prstGeom prst="rect">
            <a:avLst/>
          </a:prstGeom>
          <a:solidFill>
            <a:srgbClr val="e9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D VAE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Electroni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artina Schob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384720" y="3068640"/>
            <a:ext cx="1258560" cy="503280"/>
          </a:xfrm>
          <a:prstGeom prst="rect">
            <a:avLst/>
          </a:prstGeom>
          <a:solidFill>
            <a:srgbClr val="e9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D VAE 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 </a:t>
            </a: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ech. Eng.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Doc. &amp; Layout</a:t>
            </a:r>
            <a:r>
              <a:rPr b="0" lang="en-US" sz="800" spc="-1" strike="noStrike">
                <a:solidFill>
                  <a:srgbClr val="000000"/>
                </a:solidFill>
                <a:latin typeface="Minio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einhold Hei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724360" y="3068640"/>
            <a:ext cx="1258920" cy="503280"/>
          </a:xfrm>
          <a:prstGeom prst="rect">
            <a:avLst/>
          </a:prstGeom>
          <a:solidFill>
            <a:srgbClr val="e9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D VAE 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EMC/I&amp;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Ulrich Bett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981080" y="2205000"/>
            <a:ext cx="144144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VAE PCM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latform Compatibility Manag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Jens Knapmey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979640" y="1558800"/>
            <a:ext cx="144144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VAE PCM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latform Compatibility Manag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Thorsten Lan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437080" y="1555920"/>
            <a:ext cx="1441440" cy="50292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VAE P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cess, Planning,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Ulrich Bett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437080" y="2203560"/>
            <a:ext cx="144144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VAE 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Technology &amp; Strateg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N. 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27640" y="148428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429080" y="18432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4429080" y="24908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3565440" y="18460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65440" y="22068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3420720" y="24940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3420720" y="18464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403280" y="177336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258920" y="60199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258920" y="54421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58920" y="48657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258920" y="42894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258920" y="37130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224000" y="1770120"/>
            <a:ext cx="17928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24000" y="2347920"/>
            <a:ext cx="17928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87280" y="29224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9280" y="1484280"/>
            <a:ext cx="115092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M 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Nico D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2060640"/>
            <a:ext cx="1152720" cy="46836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Minion"/>
              </a:rPr>
              <a:t>PM 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Dilek Alt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9280" y="2633760"/>
            <a:ext cx="115092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Minion"/>
              </a:rPr>
              <a:t>PM 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Fredrik Herman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38920" y="3070080"/>
            <a:ext cx="1224000" cy="503280"/>
          </a:xfrm>
          <a:prstGeom prst="rect">
            <a:avLst/>
          </a:prstGeom>
          <a:solidFill>
            <a:srgbClr val="e9e1ff"/>
          </a:solidFill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DQ VA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enzie Lia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619280" y="3679920"/>
            <a:ext cx="1008000" cy="39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H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Thorsten Schoell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619280" y="4111560"/>
            <a:ext cx="1008000" cy="39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H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  <a:ea typeface="新細明體"/>
              </a:rPr>
              <a:t>Zouheir Hamza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19280" y="4545000"/>
            <a:ext cx="1008000" cy="39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H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  <a:ea typeface="新細明體"/>
              </a:rPr>
              <a:t>Robin Foster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19280" y="4976640"/>
            <a:ext cx="1008000" cy="39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HW/Acoust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arkus Bent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619280" y="5408640"/>
            <a:ext cx="1008000" cy="39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S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awel Grebenk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667640" y="3679920"/>
            <a:ext cx="1152360" cy="39672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cess Manag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Sup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  <a:ea typeface="新細明體"/>
              </a:rPr>
              <a:t>Christian Herna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667640" y="4113360"/>
            <a:ext cx="1152360" cy="39672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Ben L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667640" y="4545000"/>
            <a:ext cx="1152360" cy="39672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  <a:ea typeface="新細明體"/>
              </a:rPr>
              <a:t>Jay L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914560" y="3679920"/>
            <a:ext cx="1008000" cy="39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Gerhard Bleum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914560" y="4111560"/>
            <a:ext cx="1008000" cy="39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einhard Muell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914560" y="4545000"/>
            <a:ext cx="1008000" cy="39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Bernd Splei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14560" y="5408640"/>
            <a:ext cx="1008000" cy="39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Klaus Koelln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914560" y="4976640"/>
            <a:ext cx="1008000" cy="39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upert Stoegmuell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67280" y="3678120"/>
            <a:ext cx="1008000" cy="39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Do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Joerg Lubi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067280" y="4110120"/>
            <a:ext cx="1008000" cy="39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Doc/Lay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Bernhard Schil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067280" y="4543560"/>
            <a:ext cx="1008000" cy="39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acka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olf Neuha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067280" y="4975200"/>
            <a:ext cx="1008000" cy="39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Env.-Testing Suppor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Laszlo Koehl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292720" y="3681360"/>
            <a:ext cx="1008000" cy="39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I&amp;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Nico Kemp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292720" y="4113360"/>
            <a:ext cx="1008000" cy="39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I&amp;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Klaus Viktor Flits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292720" y="4546440"/>
            <a:ext cx="1008000" cy="39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I&amp;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Diana Rie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92720" y="5410080"/>
            <a:ext cx="1008000" cy="39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I&amp;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ichael Stadl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292720" y="4978440"/>
            <a:ext cx="1008000" cy="39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I&amp;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Klaus Schm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445080" y="3679920"/>
            <a:ext cx="1008360" cy="39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EM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atrik Jak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445080" y="4111560"/>
            <a:ext cx="1008360" cy="39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EM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Norbert Puet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292720" y="5840280"/>
            <a:ext cx="1008000" cy="39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I&amp;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Bernhard Zwill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79280" y="3427560"/>
            <a:ext cx="1152720" cy="50292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M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Hans-Klaus Nussbaec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79280" y="4005360"/>
            <a:ext cx="115272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M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Andreas Grielhues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79280" y="5154480"/>
            <a:ext cx="115272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M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Ludwig Kundl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9280" y="5734080"/>
            <a:ext cx="115272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M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Frank Templ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9280" y="4579920"/>
            <a:ext cx="115272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M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Steffen Pietzs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00360" y="357336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2625840" y="558792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626920" y="5157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2626920" y="47242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626920" y="4292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2626920" y="3860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547640" y="6165720"/>
            <a:ext cx="1441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* as of  01 June 20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994200" y="357336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3922200" y="5589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922200" y="5157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3994200" y="515772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922200" y="47242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995280" y="47242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3922200" y="4292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3994200" y="42926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3922200" y="3860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3995280" y="3860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372360" y="357336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00360" y="6021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6300360" y="5589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6300360" y="5157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300360" y="47242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6300360" y="4292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6372360" y="42926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6372360" y="38606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6300360" y="3860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891640" y="357336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8819640" y="4761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8819640" y="4329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8819640" y="3897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3563640" y="2133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268360" y="292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94200" y="292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373800" y="292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443640" y="292428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315280" y="292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667640" y="5013360"/>
            <a:ext cx="1152360" cy="39672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C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  <a:ea typeface="新細明體"/>
              </a:rPr>
              <a:t>N.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8818560" y="522936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1404720" y="2924280"/>
            <a:ext cx="511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B4601-3D29-4E61-BAFD-4E94B019F9FF}" type="slidenum">
              <a:t>2</a:t>
            </a:fld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880" y="43920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VAE 1 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Electronic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8497800" cy="32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Responsibility for HW-, SW- and feature related  part of the TTD </a:t>
            </a:r>
            <a:r>
              <a:rPr b="0" lang="en-US" sz="1200" spc="-1" strike="noStrike">
                <a:solidFill>
                  <a:srgbClr val="000000"/>
                </a:solidFill>
                <a:latin typeface="Minion"/>
              </a:rPr>
              <a:t>(technical terms of delivery)</a:t>
            </a: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 for ODM product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 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Controlling and checking electronic status of ODM development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Supporting the alpha-team on all HW and SW-related issu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 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Responsible for the AC product inhouse development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056F1-36E7-419A-8509-3439CBDF577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880" y="439200"/>
            <a:ext cx="8439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VAE 2  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Mechanical Engineering , Documentation, Layou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9528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Responsible for the mechanical part of the TTD for ODM product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Mechanical concept engineering for new AC product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Supporting the Project Management ED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Controlling and checking the mechanical/tool status of ODM development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Responsibility for all product related SAP documentation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Technical support and development for retail packaging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Responsibility for  AC  CAE-development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EC97F-1F03-4767-A5DA-0AEB9FA508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43920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VAE 3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Integration &amp; Test, EMC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8360" y="2071440"/>
            <a:ext cx="8229600" cy="31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Responsibility for the HW/SW-Integration Test and the System Test Accessory Device/Mobile Phon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Running the EMC-Test lab; 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EMC debugging for Accessory Devices and for the system AD/Mobil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Supporting and Consulting the ODM-development partner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47169-5F6A-48D4-B524-8BA0D5E706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80880" y="2217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nion"/>
              </a:rPr>
              <a:t>Project Management AC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229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Project management for AC-products  (ODM-products and inhouse developments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Member of the Realization Team AD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Head of the PD-Team AD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2" name=""/>
          <p:cNvSpPr/>
          <p:nvPr/>
        </p:nvSpPr>
        <p:spPr>
          <a:xfrm>
            <a:off x="298440" y="3319560"/>
            <a:ext cx="701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nion"/>
                <a:ea typeface="文鼎中黑"/>
              </a:rPr>
              <a:t>Project Management 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95280" y="4149720"/>
            <a:ext cx="856944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Project management for Edition -Product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Initiation and supporting mechanical predevelop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Member of Realization Teams  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A025F-91FD-4E5D-8406-4E0F3D8D677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98080" y="40428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nion"/>
              </a:rPr>
              <a:t>VAE PP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Minion"/>
              </a:rPr>
              <a:t>Process, Planning, Tool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5920" y="13046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nion"/>
              </a:rPr>
              <a:t>Responsible for process definition and documentation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nion"/>
              </a:rPr>
              <a:t>Interface to Business Administration in terms of budget planning and controlling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nion"/>
              </a:rPr>
              <a:t>Internal support for project planning and monitoring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nion"/>
              </a:rPr>
              <a:t>Responsible for planning tools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6" name=""/>
          <p:cNvSpPr/>
          <p:nvPr/>
        </p:nvSpPr>
        <p:spPr>
          <a:xfrm>
            <a:off x="312840" y="3753000"/>
            <a:ext cx="701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nion"/>
                <a:ea typeface="文鼎中黑"/>
              </a:rPr>
              <a:t>VAE T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Minion"/>
                <a:ea typeface="文鼎中黑"/>
              </a:rPr>
              <a:t>Technology and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85920" y="4689360"/>
            <a:ext cx="8229600" cy="16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nion"/>
                <a:ea typeface="文鼎中黑"/>
              </a:rPr>
              <a:t>R&amp;D VAE member in the Alpha-Tea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nion"/>
                <a:ea typeface="文鼎中黑"/>
              </a:rPr>
              <a:t>Market scanning for technologies available for product develop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nion"/>
                <a:ea typeface="文鼎中黑"/>
              </a:rPr>
              <a:t>Initiating technology platforms for AD product families</a:t>
            </a:r>
            <a:r>
              <a:rPr b="1" lang="en-US" sz="2000" spc="-1" strike="noStrike">
                <a:solidFill>
                  <a:srgbClr val="800080"/>
                </a:solidFill>
                <a:latin typeface="Minion"/>
                <a:ea typeface="文鼎中黑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B6904-6E20-4CE1-B9D4-2500D0E0814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98080" y="40428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nion"/>
              </a:rPr>
              <a:t>VAE PCM;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Minion"/>
              </a:rPr>
              <a:t>Platform Compatibility Managemen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95280" y="234900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Single Entry Point for all VAE-related technical issues for the mobile phone team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Member in all PD-teams of the mobile phon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Interface between the VAE-product teams and the phones PD-teams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A056A-7724-41CA-9830-04341202664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6T12:58:53Z</dcterms:created>
  <dc:creator>Selma Samrowski</dc:creator>
  <dc:description/>
  <dc:language>en-US</dc:language>
  <cp:lastModifiedBy>Juergen Riesmeyer</cp:lastModifiedBy>
  <dcterms:modified xsi:type="dcterms:W3CDTF">2006-05-15T12:11:03Z</dcterms:modified>
  <cp:revision>330</cp:revision>
  <dc:subject/>
  <dc:title>PHE R&amp;D Organization Charts</dc:title>
</cp:coreProperties>
</file>